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57C-BC46-419C-8B22-7F1B0571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0B6-7E9A-4213-8139-6E1C1A37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DEF-51CB-404A-B169-8E7ED038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BF6-BA8F-4D3C-92DF-2A921449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F5E1-2702-4C09-B61C-1024226C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BD24-E38E-4CB9-827E-94A81F55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30B1-5DED-4F40-80EE-C0C9894D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6E52-C309-4E81-8F28-821B6862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4FF2-9E28-45F4-8A64-C67BF047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559C-3842-4C93-994B-5940B843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342A-1A43-40A8-B791-AFC9069C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2A0-20BE-49B7-91D8-A7116ADA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F51E-7A21-406F-8244-77A363E3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4E2D-B33B-4295-9F87-3EF0329A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AC44-E44B-4019-9092-D501E01D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EE68-7A7B-4933-A71E-6D9724BF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9910-B409-4182-B659-2297DB01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C4B-81A9-4CAF-A57F-5C45F6AC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254-A4D3-48B8-97D7-E2F8BE8C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7DB-C53D-449E-AB2A-B6DB1A60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3359-73D3-4914-94EA-5BB46C48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E9A-9F44-46CC-BE5D-63978AF4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5DC-DCAF-4491-826F-DEE78EC8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EF9-9ED2-411F-A5A7-A68FFFD7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9aac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aac9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3BF0-5E36-4DD9-9CD3-8A16AEE62A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96E7-B5FC-4979-A8F8-6C42AB33EC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9aa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aac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3722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5998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2221"/>
                </a:solidFill>
                <a:latin typeface="Times New Roman"/>
              </a:rPr>
              <a:t>Aminosäuren/Proteine -                            Chemische Prozesse im menschlichen Körper</a:t>
            </a:r>
            <a:br>
              <a:rPr sz="2800"/>
            </a:br>
            <a:endParaRPr b="0" lang="en-US" sz="28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09120" y="35049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Was sind Aminosäuren / Prote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Welche gibt 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3" action="ppaction://hlinksldjump"/>
              </a:rPr>
              <a:t>Erster Schritt von der Aminosäure zum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4" action="ppaction://hlinksldjump"/>
              </a:rPr>
              <a:t>Woher kommen sie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5" action="ppaction://hlinksldjump"/>
              </a:rPr>
              <a:t>Auswirkungen bei natürlicher und  künstlicher (chemischer) Zuführ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6" action="ppaction://hlinksldjump"/>
              </a:rPr>
              <a:t>Ist eine zusätzlich Zuführung von Aminosäuren sinnvo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Impressum</a:t>
            </a:r>
            <a:endParaRPr b="0" lang="en-US" sz="48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7661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stellt und vorgetragen v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arik Mey und Eric Re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48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Was sind Aminosäuren / Proteine</a:t>
            </a:r>
            <a:br>
              <a:rPr sz="3600"/>
            </a:b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minosäure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Aminocarbonsäure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en aus Kohlenstoff-, Wasserstoff-, Stickstoff- und Sauerstoffatom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che Verbindungen, die als funktionelle Gruppen sowohl eine Carboxyl- (</a:t>
            </a:r>
            <a:r>
              <a:rPr b="0" lang="de-DE" sz="1600" spc="-1" strike="noStrike">
                <a:solidFill>
                  <a:srgbClr val="009999"/>
                </a:solidFill>
                <a:latin typeface="Arial"/>
              </a:rPr>
              <a:t>-COO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 als auch eine Aminogruppe (</a:t>
            </a:r>
            <a:r>
              <a:rPr b="0" lang="de-DE" sz="1600" spc="-1" strike="noStrike">
                <a:solidFill>
                  <a:srgbClr val="009999"/>
                </a:solidFill>
                <a:latin typeface="Arial"/>
              </a:rPr>
              <a:t>-NH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 enthal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ste Bausteine der Prote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bt nur 20 verschiedene Aminosäuren, die in den Proteinen vorkommen (proteinogene Aminosäuren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teine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von griech.: proteuein = „der Erste sein“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en aus mehr als 100 Aminosäuren (Makromolekül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ser bekannt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weiß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gehören zu den Naturstoffen mit der größten chemischen Mannigfaltigkei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kannt: über 2.000 Prote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chätzt: 50.000 verschiedene Prote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Welche gibt es ?</a:t>
            </a:r>
            <a:br>
              <a:rPr sz="3600"/>
            </a:b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1990440" cy="6038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1981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Unsere Beispiel – Aminosä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26668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Glycin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4114800" cy="917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01665 L -0.025 0.09438 E">
                                      <p:cBhvr>
                                        <p:cTn id="8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391520" y="327672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N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924680" y="266688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O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153280" y="198108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0120" y="137160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H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229600" y="3581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48720" y="4267080"/>
            <a:ext cx="3045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620120" y="137160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H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0120" y="137160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H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924680" y="266688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O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153280" y="198108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29600" y="3581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848720" y="4267080"/>
            <a:ext cx="3045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05320" y="3886200"/>
            <a:ext cx="21333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Glycin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23880"/>
            <a:ext cx="36576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nimation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4114800" cy="91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419720" y="3124080"/>
            <a:ext cx="380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+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76920" y="2895480"/>
            <a:ext cx="4114800" cy="917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600200" y="2133720"/>
            <a:ext cx="1676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Glycin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943600" y="22096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Glycin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876920"/>
            <a:ext cx="2590920" cy="0"/>
          </a:xfrm>
          <a:prstGeom prst="line">
            <a:avLst/>
          </a:prstGeom>
          <a:ln w="136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52280" y="5562720"/>
            <a:ext cx="4724640" cy="1160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629400" y="5715000"/>
            <a:ext cx="380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+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952880" y="5638680"/>
            <a:ext cx="1371600" cy="412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7315200" y="5638680"/>
            <a:ext cx="1523880" cy="71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981080" y="4191120"/>
            <a:ext cx="990720" cy="466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638680" y="4648320"/>
            <a:ext cx="2667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Dipeptid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0"/>
            <a:ext cx="71582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66"/>
                </a:solidFill>
                <a:latin typeface="Times New Roman"/>
              </a:rPr>
              <a:t>Erster Schritt von der Aminosäure zum Protein</a:t>
            </a:r>
            <a:br>
              <a:rPr sz="2400"/>
            </a:br>
            <a:br>
              <a:rPr sz="1800"/>
            </a:br>
            <a:r>
              <a:rPr b="1" lang="de-DE" sz="2000" spc="-1" strike="noStrike">
                <a:solidFill>
                  <a:srgbClr val="006666"/>
                </a:solidFill>
                <a:latin typeface="Times New Roman"/>
              </a:rPr>
              <a:t>Vom Aminobaustein zum Dipeptid (Peptidbind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69 C -0.3099 0.17441 -0.61962 0.34837 -0.75486 0.43974 C -0.89011 0.53111 -0.80573 0.53134 -0.81164 0.54938 E">
                                      <p:cBhvr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08189E-008 C 0.00347 0.02198 0.15243 0.07009 0.02465 0.13162 C -0.1033 0.19315 -0.63125 0.34582 -0.76823 0.36873 C -0.90503 0.39163 -0.79167 0.29008 -0.79774 0.26949 E">
                                      <p:cBhvr>
                                        <p:cTn id="10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092 C -0.26771 0.11104 -0.53611 0.223 -0.64289 0.26718 E">
                                      <p:cBhvr>
                                        <p:cTn id="10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82373E-006 C -0.21354 0.10525 -0.42014 0.21559 -0.52031 0.24428 C -0.62049 0.27296 -0.58403 0.18761 -0.60087 0.1728 E">
                                      <p:cBhvr>
                                        <p:cTn id="10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07495E-006 C -0.24409 0.11936 -0.48767 0.23896 -0.58472 0.31645 C -0.68177 0.39394 -0.58125 0.43974 -0.58229 0.46542 E">
                                      <p:cBhvr>
                                        <p:cTn id="11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0874E-006 C -0.06077 0.12029 -0.29115 0.62665 -0.36424 0.71941 C -0.43733 0.81217 -0.42309 0.59056 -0.43872 0.55656 E">
                                      <p:cBhvr>
                                        <p:cTn id="11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08189E-008 C -0.05833 0.16262 -0.1092 0.32501 -0.18003 0.37312 C -0.25087 0.42124 -0.37396 0.30581 -0.425 0.28823 E">
                                      <p:cBhvr>
                                        <p:cTn id="11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82373E-006 C -0.02761 0.02799 -0.11528 0.13949 -0.16702 0.16771 C -0.21875 0.19593 -0.28073 0.1691 -0.31059 0.16933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38793E-006 C 0.00452 0.05135 0.07396 0.22854 0.02709 0.3065 C -0.01979 0.38445 -0.21684 0.43373 -0.28107 0.46727 E">
                                      <p:cBhvr>
                                        <p:cTn id="12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8.49179E-006 C -0.07257 0.05967 -0.14497 0.11959 -0.17535 0.18181 C -0.20573 0.24404 -0.1941 0.30858 -0.18229 0.37311 E">
                                      <p:cBhvr>
                                        <p:cTn id="1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84178E-007 C 0.00747 0.06662 0.06146 0.33611 0.04479 0.3988 C 0.02813 0.46148 -0.06979 0.38098 -0.1 0.37636 E">
                                      <p:cBhvr>
                                        <p:cTn id="12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0874E-006 C 0.0033 0.05853 0.01632 0.25769 0.01909 0.35115 C 0.02187 0.4446 0.01701 0.51747 0.01649 0.56119 E">
                                      <p:cBhvr>
                                        <p:cTn id="12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19320" y="289548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3880" y="330120"/>
          <a:ext cx="6324840" cy="6537240"/>
        </p:xfrm>
        <a:graphic>
          <a:graphicData uri="http://schemas.openxmlformats.org/drawingml/2006/table">
            <a:tbl>
              <a:tblPr/>
              <a:tblGrid>
                <a:gridCol w="1582920"/>
                <a:gridCol w="1579680"/>
                <a:gridCol w="1591920"/>
                <a:gridCol w="15703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Peptidbind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Anzahl Aminosäur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Bezeichung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Bezeichung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Di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ligopept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Tri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Non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Dec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Undec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1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lypept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Eicos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Heneicosapepti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Docos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Tricos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Triacon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Tetracon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Pentacon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Nonacon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Hec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Henhec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kropept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teine / Eiweiß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teine / Eiweiß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Dic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teine / Eiweiß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is über 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teine / Eiweiß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33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-2289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Woher kommen sie ?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057400"/>
            <a:ext cx="8610480" cy="38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Aminosäuren werden im Körper produziert oder müssen in Form von Nahrung aufgenomm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Hierbei unterscheidet man zwisch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icht Essentiel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körpereigene Produk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sentiell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exogene Aufnah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i-essentiel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Aminosäuren, die der Körper unter bestimmten Umständen nicht selbst herstellt bei bspw. Krankheiten, Schwangerschaft, usw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04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6666"/>
                </a:solidFill>
                <a:latin typeface="Arial"/>
              </a:rPr>
              <a:t>Aminosäuren werden im gesamten Körper benötigt und haben daher eine Vielzahl von Aufgabe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fen zur Bildung von Horm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eln Insulinausschüt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Stoffwechselproze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rdern die Kollagenbildung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organischer Bestandteil von Knochen, Haut, Zähnen, Sehnen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fen zur Regeneration von Orga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fen bei der Herstellung von Nervenbotenstoff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bspw. Seroton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51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66"/>
                </a:solidFill>
                <a:latin typeface="Times New Roman"/>
              </a:rPr>
              <a:t>Auswirkungen bei natürlicher und  künstlicher (chemischer) </a:t>
            </a:r>
            <a:br>
              <a:rPr sz="2100"/>
            </a:br>
            <a:r>
              <a:rPr b="1" lang="en-US" sz="2100" spc="-1" strike="noStrike">
                <a:solidFill>
                  <a:srgbClr val="006666"/>
                </a:solidFill>
                <a:latin typeface="Times New Roman"/>
              </a:rPr>
              <a:t>Zuführung </a:t>
            </a:r>
            <a:br>
              <a:rPr sz="2100"/>
            </a:br>
            <a:endParaRPr b="0" lang="en-US" sz="21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1676520"/>
            <a:ext cx="9144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lycin: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nt als Stickstoffliefer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Glutam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terstützt das Muskelwachstu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Alan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ielt eine wichtige Rolle in den Stoffwechselprozess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wischen der Muskulatur und der Le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Asparag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 wird im Körper zu Ammoniak umgebaut und wirk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rntreibend. Es wird zum Abbau von Alkohol benötig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sparaginsäure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d für die Bildung des DNS-Moleküls benöti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lutaminsäure: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ein wichtiger Transmitterstoff für die Kommunikation zwischen den einzelnen Gehirnzell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l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wichtig für Gelenke, Sehnen und eine normale Funktion und Regeneration des Herzmusk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rinmangel kann zu Abgeschlagenheit und Depression füh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Histid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ildung des roten Blutfarbstoffes Hämoglobin, Schlüsselfunktion bei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lergischen und entzündlichen Erkrankun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Cyste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-Cystein ist unentbehrlich für die Haar- und Hautbildung, hilft bei der Entgiftung des Körpers vo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ermetallen. Ein Mangel kann den Eiweißaufbau und auch die Wundheilung beeinträchti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Isoleuc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fbau/Erhalt von Muskelgeweb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Leuc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isetzung von Insulin in der Bauchspeicheldrü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Lys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ördert die Kollagenbildung in Blutgefäßen, Haut, Knochen und Zähn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Methion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lft bei der Regeneration von Leber- und Nierengewe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Phenylalan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r Bildung von Proteinen und Hormo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Threon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ördert das Wachstum d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nochen und dient zur Bildung von Proteine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Tryptopha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rstellung des Nervenbotenstoffes Serotonin beteiligt, welches den Schlaf- Wach-Rhythmus,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Stimmungslage, den Appetit und das Schmerzempfinden regulier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Val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kt der übermäßigen Serotoninbildung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tge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Tyros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 wird für die Bildung d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ilddrüsenhormone benöti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Argin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kt gefäßerweiternd und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guliert somit den Blutflu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uszug von Wirkungen einzelner Aminosäuren</a:t>
            </a:r>
            <a:br>
              <a:rPr sz="3600"/>
            </a:b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uf körpereigene Prozesse</a:t>
            </a:r>
            <a:endParaRPr b="0" lang="en-US" sz="24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077320" y="635004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500" fill="hold"/>
                                        <p:tgtEl>
                                          <p:spTgt spid="14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4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51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Times New Roman"/>
              </a:rPr>
              <a:t>Ist eine zusätzliche Zuführung von Aminosäuren sinnvoll?</a:t>
            </a:r>
            <a:endParaRPr b="0" lang="en-US" sz="23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Normalf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keinen Mangel an Aminosä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örper stellt alle ihm im Umfang benötigten Aminosäuren selbst her und nimmt die gering benötigten essentiellen Aminosäuren durch Nahrung au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usnahmef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 Mangel an Aminosäuren kann entst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 Krankheitsfällen oder noch nicht ausgereifter körperlicher Entwicklung werden bestimmte Aminosäuren einfach nicht gebild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ßergewöhnlicher körperlicher Belastung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z.B. Schwangerschaft, Stillzeit, Leistungss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CYou</cp:lastModifiedBy>
  <dcterms:modified xsi:type="dcterms:W3CDTF">2007-11-25T22:29:37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